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4B3-8386-4CF8-974B-1CE9DAA7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CDE-C282-4A12-9305-07F9865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26B46-AD77-4FEA-A67B-3EF09918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8C75C-5F40-424B-B781-E48B3101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7AE86-12EF-4EA9-892C-17554FB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F82E7-DE85-470C-8B6E-EDC8C4C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E4D86-D984-41E8-96D8-EF741376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D36E0-C3C3-4C7E-9ECB-DF3BDCF2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CCC63-AABC-4D1C-A97C-30304F6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6CB09-504A-4B70-A821-47CD1031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F7AA6-D9AB-47AC-A42E-B9FC6365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D9082-E4DD-46E8-A24B-EAA223CC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537-2059-4CFE-8896-5B25A934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4FC84-F6C2-4EB0-BB1C-4116AF97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8E5FC-520B-450A-89A3-F9BFFD70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A760F-7451-4ECA-AF28-780B1D97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397FE-A4C4-40A9-82DE-57FEF3E9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5CE74-2A74-4C58-8BEC-7E1A8E89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02563-5843-4B9F-928F-7C5087A9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36557-23D9-4023-BF3B-107A8C1C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92702-391B-4338-A76C-D048553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4357A-8D5C-43AC-8B62-4DB9B65D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2C765-CA85-4408-AA53-D43A7A86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A93-1BB4-49F8-A672-EFC87791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F5478-4860-4DDB-A26F-D8D84718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C13B3-B1CD-4E67-8366-9EAE4940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44E74-7298-43A2-A0AE-7F1083CE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FC9DD-E94A-4FEE-9066-59315FB5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B514F-45CE-49F3-A249-0970138B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B3C79-7B7E-45E6-AF77-DCDED464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8AF63-D05F-4EEF-94A7-FF42AAB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83170-9CB5-427D-91D8-9CCCBA3A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CFB3F-D70E-48BE-AC28-497B8E10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CD209-BEA1-456F-B0B0-B6E6C573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FDE6-281D-4969-A4DE-C14ED70F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DC8D5-8C6C-40B2-B2B3-6041414F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27BE1-7644-452B-BC29-EC163128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419AB-0492-49A7-87BD-C4289115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6056F-CFCD-403C-B1D3-EF0F6548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CB42C-6887-466A-AD9E-CF68EFEC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6F138-5DE5-456F-B496-FB70F4E4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4E0D1-DE16-4C75-9F59-AF10C588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5F1CA-7EFA-4353-B09D-4722438B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D5E3B-2DA5-41C2-8AF0-4347DC5C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4C0A5-4F9C-41C6-ADF7-5D8636B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753C-30F7-4694-AE2E-44AB5A22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3A62F-64BC-45F1-AE74-5DCBAFC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3F1B0-5AEB-449A-966B-A40E528D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B460B-6EB0-43E6-A856-8D175498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8E628-8DF1-474A-953C-F3C5C692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FE1A5-9985-4DE5-8FF9-ECA22966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AACF0-8DB3-4D10-8F4B-205794F9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3E883-9BFB-479D-85D4-6623C4F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501C4-4500-4155-8968-DD7D612F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53566-882D-485B-AC1A-618F80E5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230AE-D76D-4851-8187-9E70ABAC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9235-1F62-438B-8966-DB936D7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FEE39-3EEC-4346-97F2-92FD7CE2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E5609-AE45-4333-ACF8-6CDBC86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08BFB-01BD-4C47-BF7F-E5B70B2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E7727-0302-47AD-A9FD-661546A7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766D8-7450-4807-A3E6-EBE06DBF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BC622-426C-42BC-B15E-F36AF87D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FEA13-2CE2-4028-B777-89C0FD66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C60F9-530D-4F49-86BE-15019B4E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112C8-81E0-4E7D-89ED-25DBE879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10B0A-7D37-4840-856D-B96CA4DD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C9C9-C11D-4456-AF7E-2CF899AC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D89D9-96D1-4D1F-BD76-A0F98153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94FFD-96AF-4BE0-BCEF-23412E79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A1986-901F-4F62-9B63-1A4D1AD2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4458F-E494-442F-B976-3B8620E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94981-D834-41BF-800D-0333528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BE07C-6BF1-442F-9C06-34F7D235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F7F86-295C-4FC9-86FE-13DC7B2C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59A9C-8B17-4F94-B9FA-26866130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C75D2-FC69-4AE3-9C02-241DD524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5B8AB-2EE2-4DFA-85D6-E7602E8A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CFD8-470E-4E25-A056-63309B34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4F51E-9468-4671-99F7-4EB1C01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DDB37-9FC2-4A02-8FF2-DECBB3F5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0D605-7B6E-44E1-963D-B64A60B7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878F4-4FBE-410E-9E1C-A983DCD1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878C8-7BEC-4CFD-9CD5-17058DCA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14009-644F-4986-948F-C67BD00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B33C0-77DC-4D71-8B03-AD6A0DAB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2C0A9-0B1C-498B-9587-137C2EF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6FE07-CA22-4757-895A-1C2A72C8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5FA06-16E9-4080-8A47-165E2CBD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0845-3BBF-4202-80FD-C9F31E55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76D38-F881-4EA4-AF9E-659C4FE6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4AC72-0FA1-40FA-8A42-39B65592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BA0D3-10D4-4AEB-AF97-06F86026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6818E-419B-44CE-951B-E5A383D6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EA03C-6021-46F4-83FE-D96ED97F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67C771-CFFC-4B36-80B3-215E5679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EFD0E-6246-42CC-A20D-C79FC8B9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8B74C-DF9A-423C-B5C7-A73BC78B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B0A30-0350-4EEE-BB08-308BE16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B2496-3FBB-4A4B-87A0-18ABB1E2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FD4B-B7F2-4226-9765-59271553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0C19D-1384-40A9-BF43-97AAB05E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96088-DE1D-4D53-A3BF-FE60807D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ED4FE-B58F-443E-BBFF-2B57DFF6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C0C3A-F2EE-4A71-8FF0-7F395ACD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EDBC7-26CF-479A-A7BB-0A4D4EC1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A8EF8-8324-4D3E-8BB7-9181F979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3F468-3D84-4077-90A7-48EF2C33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FCCA5-B575-42C0-8E14-3491127E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00C5A-A82F-44B0-9D8D-C0CDD64F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43D22-07C6-44AE-B5C6-A1C4FB9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765-884A-4BF6-AC26-B22C2FA5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44CA-8399-46B9-B0F6-627F987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5067B-70B7-4184-8D8B-3722D22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8EB0F-48A2-4308-B2DE-41EA909B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27F76-4CDB-44F1-9857-F1E03300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40E66-26C6-407D-A514-F4169FD2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BC34C-3925-4DDB-A5CD-42E13C5B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61AA2-5E38-4DA0-BAAF-52812E9E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8F33E-70BE-408D-A36A-C7E03B0A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0AFB5-9C0A-4D8B-9C87-FDB34966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42A6D-C78E-4982-B397-2C1CE1F7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5522A-6924-4530-8B87-0D9C5125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922-1D54-467C-BBE8-E89D2B16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54EE09-F179-4593-A6CB-8544A47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AB9A5-71A1-4F3D-B10D-DAF2C976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0BE2F-1D67-467E-9044-9CE05DBD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359AA-D41E-4F33-A7C7-57C246B2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40A52-D685-44EE-B690-5AE2D19F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030E2-7EF5-4816-8212-A77F9188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2AE550-4110-40EE-8F1F-061971CC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F1E3A-66A8-49FD-AE1E-5E2DD682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9E8F9-E193-48BC-967E-5D3AAFED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DB0AE5-7F43-4D4D-BE04-8EDD2439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B727-7BFB-4202-A426-ADB0D96F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028550-BE1C-4319-8CE9-784CAF76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BA65F-A52F-4CD5-AA16-976E8CB0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B0E48-9AB0-4744-A48A-973D0AA4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4D9CF-2DA0-42F0-B530-756FA25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FF4B9F-7D4F-4A4F-B38A-A2574FFF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82C88-80C2-41FD-9902-D4125DD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FFB5FC-9F2A-49D6-9F27-FE0CA35F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95F20-AC52-4377-94B2-5AC28BBE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C11C6-6ADE-461B-A553-FAE3CBD3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1728B-39D6-447A-897B-E140AB92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B62E-9195-4D8B-BC5B-BDB44828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42B2F-3DD8-438E-8BAC-2CA1F05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E7F7E-CD66-4C83-9BB6-D3607C0A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0B24A-A42A-4BEC-A462-F41D81B2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AC14DA-DA7F-4CA3-93D3-B45F95C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952C7B-B25F-4CB5-A883-EB771A48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704057-1C36-4DB8-9081-5E5B18E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D33E8-D990-4BA5-8321-2ABD481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7A0F0-86BC-4DD7-999F-AEA1F33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11DE8-74D0-424C-8A95-A1371E14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F02020-2B65-4133-8308-441FC32E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0CCF-555B-4A21-B684-AE35B685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62719-E1FE-4919-818C-9ED480BD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4DCCF9-5283-4F1D-A535-64318BB0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3B6675-6926-4DED-9F22-3B23818A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E1AD0B-1D0D-4909-B622-6D2BE23B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89924D-93D2-4FEF-8EB4-659A6720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BE040A-B73C-465E-AB3F-C1BFEA7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CA67A7-7EE9-47C2-B130-A910DC49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88E81-4DF6-4690-9568-75AE5391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9518FC-3AE0-462F-8E18-7BC06F9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02D426-E63D-4546-A390-F82C94E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4158-624A-4B2F-97AF-23D2C143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E46D6-EAFD-450E-8C70-6F929533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C27DEE-30EC-457C-96E3-4E16D9AC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2C0D3-0169-4345-8C61-0EE27251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3B7BCD-3707-49C4-B926-1A7D0AA0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3DB7C9-589C-4670-ABFD-407F4880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B35463-9EEF-4225-ADB7-FA431342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CCFCED-53B7-4466-809E-66CAC390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8604C5-EBA3-498A-889A-32194E65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9FF497-029F-43D5-9004-A5061709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223816-8883-483E-A344-C48C9924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06A1-CCC3-43D4-A131-B4E8E494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03FB65-B112-4489-85B5-AF157038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7FE66D-E63B-4B1B-913F-5B0283F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777102-CBF4-4A7A-A4F4-D4F2A3D3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59395B-C1CB-4309-A015-86FAB805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0C3942-BCFC-44FE-9E43-C89D68F9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A6CA27-4BAB-4374-A708-0EF2B9DB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0E81F9-19DD-4763-A2F4-DFC827B5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228EF8-7899-4D9F-A75E-FB3BEB19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EB4B19-4E55-4B47-BB9D-F0135963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59DEC5-0EC5-42BC-A98E-33239268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437A-C4F3-4D58-AF4E-B6695A5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57985F-59FC-429F-8CC2-134C2B6D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E78608-C473-4122-87D0-56DFC12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E76CF1-241D-453A-8A10-C097943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C6CCC5-E7BB-4010-B9D3-07C9795D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042C6E-9DFF-4B40-8FF5-960B3D6F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021AC0-7F08-4A26-803F-216F3B9A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AA5C3E-95B6-4A1F-91CF-48E7779E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61F5-F1F9-474A-9F6F-A8F2B7A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BAD7-E9F3-4E33-873A-3724743D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9F4-A645-4C2D-A5EC-9C6F3926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6BB04-B95B-4573-9BEE-F16E5AD3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28E0-7843-4B23-8082-D7980A02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E56E-D30B-48E8-9D11-7AB84E2B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A982-96C3-4965-9537-E9FF698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5F25-90FB-4055-BF96-69FC37B7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8033-607B-4389-BB39-D9639D6E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3E40-7401-42ED-A005-6B7DF9E6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6DA8-7423-4B1B-81C9-7ACB6FE6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EA9E-92DE-48CB-92E3-BF4E1AA3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D966D-1690-469B-9A90-42B8DAB8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B68-91A4-4B5E-98C3-95F4C52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25C7-C9C9-49D1-AA56-53F3FF55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87C7-AD9E-4992-BDA5-49F46F0B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2C8FA-DC34-40D8-9DEB-C23E8026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B155-F843-4F54-AAF4-B3FCD696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5E16-2414-4D6E-A03E-4AAC1D86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75895-1579-49A8-BF7E-F4C422D7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897D0-6A8D-4F20-8663-135BDC52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1430-864E-4B7C-84FF-7BC65284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773C-2D47-4E36-89DD-2338EACC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82FCB-0003-4009-A305-534C1CDB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32C-FCAA-4D15-945C-8CD40684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5721-0A19-43D9-92BC-3F166F58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25A2-1B80-413B-A775-34669889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8872-59D5-4EF9-B869-41E62183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B50DC-504C-4E0D-AB85-24792E66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A0A4-1E76-414D-B345-EA17808F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C6785-C02C-4997-AA49-731AD72B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47AFC-4113-4209-BA60-4F48D431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52A0C-0482-4838-A43E-6218548A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8D45-F3B4-43CF-AC12-34077650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6792F-EEE8-4109-B1B1-0F7ABD3C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604-95D1-44F4-BF21-66B27A7A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A41B9-AA78-4A83-AD8B-1AA7F854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366CB-CED3-4398-97BB-0A476C16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0CD17-2785-491F-952D-C2B4C863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D813-6B8E-4AD4-A8B5-8B116416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0A295-E9EE-41F4-8805-11A0C84A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E554B-C096-457F-8D3F-AC46679A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54FA-DDE3-43A9-811E-1AC41066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B6AC2-E0B4-4F23-B765-EAED07DF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4DE25-EF73-49DA-87EF-F1A43769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E47B7-E269-4F84-8961-BCA4F2C1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FA8-6F15-499F-8904-32ADACF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3FDE2-9D8B-421C-A64E-6B1A0BE8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4B1CB-E39F-4FF4-BB75-12F9169D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09D3-5A4A-4A8D-8EB7-8A7FA689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D0C2A-388B-4BA4-BC99-4F8F4864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8E3D-24F6-4802-9279-13003B80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9FDF-F8F8-461E-813A-6B1B4FC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911BB-F40F-4FDC-A23A-E87E98A3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1A63-875E-41AB-8BDF-4A0AB409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CF530-72D0-4954-8D4C-0084ECAC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95D5F-3F22-428C-9410-18EAFE3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DEA-1ABA-48C4-BDBA-0E0E61CC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2B76A-2667-4818-A142-7EFC7510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A669-8F67-4BDC-A06A-204AFE7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97639-9C38-453D-8B27-7B7E313F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015E6-39C9-4892-887F-5FA9A6BF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E3092-FC4A-4C6E-802C-8B7B9209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D0D39-E757-46BF-B4C7-807DEC7C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CEF4-C260-4827-91EF-271E97F5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54581-069E-4B02-9F8E-A1E2541D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3C439-5DAF-4D59-A742-26AEB55E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E5C55-CACB-4A2C-B75B-CF44FE9D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DF2-61E1-4999-B7FE-9B120F54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D2533-EDC1-4A85-832A-C174858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DEF48-12DD-40D9-9C61-FA0C676C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1087F-06C8-44FD-8ABD-F38BCB3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5C04F-8900-4C4E-A015-0DD6D4F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473F7-15F3-4126-99D2-41485CF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1A6B2-7D16-43D4-87C6-9D83275D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867B8-1814-47E0-AA56-6AF33A51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829C0-45D0-4870-AA63-008CC10B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2FC04-647E-46C0-B033-A9FCCE9F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A32D1-D3DF-42D3-AAC3-D2079186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49DB-C734-42EA-83AC-12521489EC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9166-02A0-41B1-A57D-931EE510A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6A84-D5A9-47DA-9640-6F0F9B914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7485-45A6-4C40-B58E-B0FE2A2411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EFE6-3E0B-453A-81FC-317C9C1D4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03DB-C259-4A63-8232-C8DB9E64C7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A768-D396-45F5-8A96-59DC2BF675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EC25-2A9E-4D03-AE85-0384ED7298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1110-9284-49F5-B539-B219BA0C37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7EE8-6CFD-4086-B4A7-CDB9401D13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ECE9-D9DF-4F91-8F5A-8AD59B74DD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B1F9-54B3-4EDD-879F-2D9D3E3EE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626D-5AEF-443D-9EDE-5DF55854BE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9109-A020-4CC2-A64D-30114DA21C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2AA7-A2FD-44E3-8636-5A2D3CF511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BDEA-6E1B-49E0-803C-AC34A3ACE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2EE2-556C-4CE1-8005-2B4DF76BF0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AA02-4E4B-48B9-991F-933B263798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A067-7B88-4917-8AB6-306E99FF4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0FB0-074D-4CEA-A7C8-F8D2D26162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962A-482A-4980-AD7D-9962B98C9E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150-2B51-4D7A-90AF-A03F6DCAF2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D3F1-D977-43ED-A7EC-DF74800548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305D-52C5-4EF3-9600-7DB71B6102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7ACE-CF57-4611-8F3C-8C5B6C905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F9B1-24C8-47B2-8534-63081D5BD1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2A06-53A9-4EC7-9EB8-60412D2A38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012-50F1-406C-9945-F557AEFB13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A7B0-7C46-4EAB-BB2A-CA902E321E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D4A6-3E11-4A05-925D-C1B72128D1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DD36-9337-412E-882F-04436EBC4D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5EBC-49DC-497E-8D8C-E1EDE39FFC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93A-497D-40DE-A2DA-2A24A0516A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D807-2375-49F1-BE13-C37DD8C1C1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CEFB-10A0-4B23-A0C1-B318EEF2E1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AF05-4187-4F6F-9E63-BDAA55F5E7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3F87-1959-4906-8E7C-C19AB7DFC5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A3CF-A2D6-43F4-95C2-AC8C0FCC60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3CD5-0B7F-4507-A11F-88B361AF1D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54AC-25A7-47CB-9E67-3F576BBEB9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AAD3-BF17-4538-8289-AFF39DA80C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558E-DB22-4805-87C3-C66E4FCF61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285920" y="3105000"/>
            <a:ext cx="65721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214200" y="879480"/>
            <a:ext cx="8713800" cy="53434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216072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3851280" y="2651040"/>
            <a:ext cx="259236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1763640" y="3097080"/>
            <a:ext cx="295272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6"/>
          <a:stretch/>
        </p:blipFill>
        <p:spPr>
          <a:xfrm>
            <a:off x="900000" y="3976560"/>
            <a:ext cx="2160720" cy="4064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7"/>
          <a:stretch/>
        </p:blipFill>
        <p:spPr>
          <a:xfrm>
            <a:off x="1835280" y="4422600"/>
            <a:ext cx="1081080" cy="4064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8"/>
          <a:stretch/>
        </p:blipFill>
        <p:spPr>
          <a:xfrm>
            <a:off x="6804000" y="5329080"/>
            <a:ext cx="1081080" cy="4064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9"/>
          <a:stretch/>
        </p:blipFill>
        <p:spPr>
          <a:xfrm>
            <a:off x="1619280" y="5762520"/>
            <a:ext cx="2448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1" descr=""/>
          <p:cNvPicPr/>
          <p:nvPr/>
        </p:nvPicPr>
        <p:blipFill>
          <a:blip r:embed="rId1"/>
          <a:stretch/>
        </p:blipFill>
        <p:spPr>
          <a:xfrm>
            <a:off x="228600" y="1433520"/>
            <a:ext cx="8686800" cy="39909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2"/>
          <a:stretch/>
        </p:blipFill>
        <p:spPr>
          <a:xfrm>
            <a:off x="2771640" y="1370160"/>
            <a:ext cx="1871640" cy="4060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3"/>
          <a:stretch/>
        </p:blipFill>
        <p:spPr>
          <a:xfrm>
            <a:off x="7272360" y="1370160"/>
            <a:ext cx="1547640" cy="4060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1871640" cy="4064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5"/>
          <a:stretch/>
        </p:blipFill>
        <p:spPr>
          <a:xfrm>
            <a:off x="5219640" y="3602160"/>
            <a:ext cx="1224000" cy="4064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6"/>
          <a:stretch/>
        </p:blipFill>
        <p:spPr>
          <a:xfrm>
            <a:off x="1187280" y="4494240"/>
            <a:ext cx="158436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76040" y="1528920"/>
            <a:ext cx="8790120" cy="38001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79360" y="754200"/>
            <a:ext cx="8723520" cy="60181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684360" y="494172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90440" y="1324080"/>
            <a:ext cx="8763120" cy="42098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1258920" y="1816200"/>
            <a:ext cx="100944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1835280" y="2751120"/>
            <a:ext cx="100944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1476360" y="3227400"/>
            <a:ext cx="208764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1332000" y="371628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3492360" y="3716280"/>
            <a:ext cx="100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1303200" y="4638600"/>
            <a:ext cx="1008360" cy="406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7308720" y="4653000"/>
            <a:ext cx="1295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200160" y="817560"/>
            <a:ext cx="8743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276120" y="1019160"/>
            <a:ext cx="877248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216000" y="752400"/>
            <a:ext cx="8713800" cy="395280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2" descr=""/>
          <p:cNvPicPr/>
          <p:nvPr/>
        </p:nvPicPr>
        <p:blipFill>
          <a:blip r:embed="rId2"/>
          <a:stretch/>
        </p:blipFill>
        <p:spPr>
          <a:xfrm>
            <a:off x="314280" y="4911840"/>
            <a:ext cx="8515440" cy="18000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755640" y="537372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266760" y="711360"/>
            <a:ext cx="8588160" cy="60703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755640" y="501336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90440" y="2124000"/>
            <a:ext cx="8763120" cy="26100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3:5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